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A23-BD64-4FA4-86C8-90B049CC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566-DAEB-47E8-A8B4-5CB05A1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CB2-F4C3-4D54-BB99-76569FA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E10-0EDC-4DF6-811A-55E65DD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40B-2694-485F-B152-C7D426AC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7BA-DACE-474B-B0B3-E93570FF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A5F-9BE9-45C7-9A2C-879EB05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DAA-6E29-4CAC-9C41-2E8C0AB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BFD-C0F4-41DE-B35F-2ACDC07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75B-1D71-46B9-811A-784E7BE1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BC7-26EA-4689-8904-B032F7E7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47C-651B-40D5-9001-DE5226E7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685800" y="6324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64E0-9B66-405A-B3E8-B0A6707D2AB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2 functions for getting NMEA 0183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can get whole sentence or specific field data(UTC time, latitude…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GPS%20Application-2" descr=""/>
          <p:cNvPicPr/>
          <p:nvPr/>
        </p:nvPicPr>
        <p:blipFill>
          <a:blip r:embed="rId4"/>
          <a:stretch/>
        </p:blipFill>
        <p:spPr>
          <a:xfrm>
            <a:off x="6324480" y="1828800"/>
            <a:ext cx="2384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SM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unctions for SMS and dialing to remote host for data l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GSM_APP2" descr=""/>
          <p:cNvPicPr/>
          <p:nvPr/>
        </p:nvPicPr>
        <p:blipFill>
          <a:blip r:embed="rId3"/>
          <a:stretch/>
        </p:blipFill>
        <p:spPr>
          <a:xfrm>
            <a:off x="4724280" y="241776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GSM%20Application-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804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demo program for using GPS &amp; GSM with 7188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am demonstrate how to adjust the RTC of 7188XA with the GPS UTC argument and use 7-segment LED as simple HMI fun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5:46:01Z</dcterms:created>
  <dc:creator>Tony</dc:creator>
  <dc:description/>
  <dc:language>en-US</dc:language>
  <cp:lastModifiedBy>Tony</cp:lastModifiedBy>
  <dcterms:modified xsi:type="dcterms:W3CDTF">2003-02-11T01:59:55Z</dcterms:modified>
  <cp:revision>8</cp:revision>
  <dc:subject/>
  <dc:title>ICPDAS GPS &amp; GSM Solution for 7188XA</dc:title>
</cp:coreProperties>
</file>